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1BC7-A029-4416-9B6D-779A3CDBF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5602-8366-4258-8DFD-71689586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4929-BC38-4916-AA94-2F40C7E00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DB6C-690B-4422-9735-62727A898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C284-1465-4C0A-85B7-F7B8F770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8523-75AC-4E5E-B46D-68347468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6F70-E46C-4888-87B5-A5D7B800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DC45-E612-4E1E-A620-631EF476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4D42-FDDB-405F-8FEC-84F79B01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B654-DD67-444F-A47F-D2FAE80D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1DF0-9084-459B-AFB9-A29B6FF0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978F-2F70-4C8E-9C64-245726FA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43DB-6C98-45E8-8D62-647A65E591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115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Questions de mesure…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Image 3" descr=""/>
          <p:cNvPicPr/>
          <p:nvPr/>
        </p:nvPicPr>
        <p:blipFill>
          <a:blip r:embed="rId1"/>
          <a:stretch/>
        </p:blipFill>
        <p:spPr>
          <a:xfrm>
            <a:off x="3178080" y="2279520"/>
            <a:ext cx="649620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 Light"/>
              </a:rPr>
              <a:t>Un éléphant d’Afrique ça pèse…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20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s gram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20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s mèt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20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s kilogram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Image 3" descr=""/>
          <p:cNvPicPr/>
          <p:nvPr/>
        </p:nvPicPr>
        <p:blipFill>
          <a:blip r:embed="rId1"/>
          <a:stretch/>
        </p:blipFill>
        <p:spPr>
          <a:xfrm>
            <a:off x="6769080" y="2371680"/>
            <a:ext cx="46814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 Light"/>
              </a:rPr>
              <a:t>Une girafe mesure en hauteur…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20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s kilomèt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20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s gram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20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s mèt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Image 4" descr=""/>
          <p:cNvPicPr/>
          <p:nvPr/>
        </p:nvPicPr>
        <p:blipFill>
          <a:blip r:embed="rId1"/>
          <a:stretch/>
        </p:blipFill>
        <p:spPr>
          <a:xfrm>
            <a:off x="7377120" y="495360"/>
            <a:ext cx="284004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 Light"/>
              </a:rPr>
              <a:t>Une baguette de pain coûte …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20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nviron 10 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20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nviron 10 centi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20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nviron 1 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Image 4" descr=""/>
          <p:cNvPicPr/>
          <p:nvPr/>
        </p:nvPicPr>
        <p:blipFill>
          <a:blip r:embed="rId1"/>
          <a:stretch/>
        </p:blipFill>
        <p:spPr>
          <a:xfrm rot="18364200">
            <a:off x="5220360" y="2481840"/>
            <a:ext cx="6114960" cy="22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5T16:18:54Z</dcterms:created>
  <dc:creator>nicolas pinel</dc:creator>
  <dc:description/>
  <dc:language>en-US</dc:language>
  <cp:lastModifiedBy>Nicolas Pinel</cp:lastModifiedBy>
  <dcterms:modified xsi:type="dcterms:W3CDTF">2017-08-01T08:19:57Z</dcterms:modified>
  <cp:revision>4</cp:revision>
  <dc:subject/>
  <dc:title>Questions de mesure…</dc:title>
</cp:coreProperties>
</file>